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89A-1C6A-4A04-92FB-1E1B04A8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0F1-0B49-44B9-85D7-D9E222F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ACF78-F439-40B2-A8BE-6ACE7F14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10A7E-2290-4927-991C-B8A0506C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E1749-A3BE-442F-9A96-5A1D82EF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27E41-9A66-43A4-92B6-F693B4D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CACEBC-48D8-4A82-9CD4-451B662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211C81-9C49-4830-9F82-2D359A3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EC53E-585F-4850-A1F3-2163DBC1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B3F98D-1563-4479-9EF7-589597DA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6BD06-CDBC-4D28-BF1C-B8519DB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6DA40-DF94-4FBE-87EB-89103D23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491-4DE0-4670-A877-4F86D5AB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E367-608A-46B3-B5C0-971572E6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D16C-F207-47E7-8972-65D4D962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FDF43-3D5F-45E8-AAC4-2D273D9F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75286-4829-4543-96E3-1411527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F78AD-69F7-443F-98AA-B9E0663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23BBD-781C-44C4-9CD5-1C4B000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88E13-81EB-402A-A36E-643081F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F0BBD-E3DF-4CD9-8D56-97E26F5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CEE9-EA80-4D8C-8541-2E9D7B15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3C102-93F0-4285-898B-0CA8D8DB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797-03C4-4E4C-AD90-D04FCA35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24B0E-5084-42D2-A826-CB1C2EBE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6C6-A646-4305-B9A3-411770A1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44A1-9A2C-4573-94AE-4939BAB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0DA-9CCA-423C-B823-50A87034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58E7-4D51-4D10-9D2C-0B72E9AD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3C9-B020-4028-B9B6-CBF9C50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5DAD-95B5-4DE9-B625-F04F2ED2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EAC-3851-4513-A8C7-38B72D63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D17-6A6B-4CEF-B0B6-FCB08925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986-8372-4BD1-A654-759BBC1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401-3336-4FFA-9891-B37F52B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55A8-96D2-476B-A38D-4BB2C4E7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D06-622E-459F-BC40-D810E3E4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9A41-5002-446A-9779-48A6A3F8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5836-E207-4CDE-9CE3-E378714E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F34C-2B99-4314-A166-6ADFA74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798E-CDF1-4FE3-82B2-F3C9A006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05C74-56C5-4A2E-9696-8381F8F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CB33-FA90-4A29-A2EC-661DDE3C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14F-9755-4EE1-8EA0-BC02D7E3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1876-6E37-4E74-8A3E-C6FEBAB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6CC9-0CC2-4BF4-BAFB-118E95E2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591C-308E-424F-A405-1B30E837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4706-F1DF-4329-A7B5-C04BE52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F02B-CECA-4B73-9674-365D9B68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6FD7-8FCC-4C4F-B7C4-D57C1E7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EF4C-5A0B-4037-BC87-F2B2C41E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63025-FB0E-4018-9AAA-799CA56B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3D9B3-E13D-413F-AE34-DA0E10B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7B865-AE59-4D24-8BF5-2566456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E9B-5D28-41DD-8A40-0D48E9C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1FB7E-F932-40A5-8809-9D8DD30A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33BC1-3D8A-44D7-B7A6-6A42518B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2129B-4AAA-4B71-B248-140BC5A7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70517-26A2-4EF5-A803-48EC1D4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76E30-D735-4480-94B0-DEBBD93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15230-CE2B-444E-8834-A233947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F4D2E-4D69-4487-9925-7464DC0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E6955-F2E1-49C9-A815-7CA3EA85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37A40-D733-4C23-9167-F53591F0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178D-89DB-4B05-B3F8-24A65D30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1E9-CD06-497C-9F5F-FFD1A8C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37DE3-EB4A-4999-8AA7-D3E3D3E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0164-52A4-469B-9332-32DB69F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23E4-7727-4073-BD32-69EFFA3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F84C-2935-4D0F-BE0B-1E2CB50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2E853-6414-48F4-A017-3EB1705C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5020-1718-490B-94E5-5D0E486A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6957-2062-47B4-8C12-3329F96C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2697-01AA-4D7D-8D02-12B0DFB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16086-A41E-4D01-A30E-90C700DA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F452-3304-43AD-9098-243AAB7D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BDF-9958-4415-9334-8F83784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DBF3C-E23A-4127-A867-AB983598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5982B-406C-492E-A2DF-6B06C8E0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33112-3E7E-42D3-A153-E25DC42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D27A4-827B-4C01-8423-878BB92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41AEB-3CC6-45FF-B501-6265A141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709E1-8F66-42E5-A1EE-1E36934A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0A60D-AE64-4B36-BAF9-7C1DB15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00978-D139-464F-8F56-7FB5A14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C8752-1202-43DF-874F-9AAE3EC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0D7AD-3A97-45F2-AD69-9BF2BCB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F39-CA51-471C-87DC-57B34BE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2207A-8055-464D-B425-7D0B7C89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8D258-897E-460C-9C73-3347A2FC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C9DC7-167C-40D7-89D6-4FC69D1F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B25B8-62DD-43AC-A6F4-27F165D4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0A61-6BBD-47F4-9E5C-C560DFCE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D1E5-9A5F-4B5D-8E0B-1F55F192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7113-FCCC-4DEF-966F-BC1616E2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82E99-90B9-4FCE-8883-5E193184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AD693-F68D-4A83-9C78-64A587C0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EFA16-AE28-4A1D-BBA1-72BA607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978-F2DB-4034-B7AA-21A1604B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220D-36B0-4204-A8C1-0DFE665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05F9-5C62-49AA-93EE-EB5A0C2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3EC65-E1A4-40D3-A0B7-E9FB89B5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B4577-EEA5-413B-879A-97867AC6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02E3-EE93-4F5C-A0E7-18666E2A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A4D18-A3FF-4209-A448-9B29F900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CCD5F-D439-4179-8029-77CD90D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E704-402E-4CA4-BFEE-83051D9E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4F347-E8A0-450E-986B-9F92AA0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544C6-7035-437E-A07B-ED15BCC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76E-158D-4376-AC52-74198A42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DED40-92D2-49FB-A58B-33B35F8C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D155-5453-4515-AC9F-120F515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7AE2-8DBA-402D-891F-1166515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2685-C2D7-4EEC-81D3-0FA4D0AC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4D140-2669-4E24-A18C-52802D4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C41D-D18A-4300-B4B4-653A6247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FA4D9-5DB7-41C4-95D6-A73AFB57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A1D4B-0879-46E3-856F-D25C0DD1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17823-73C0-4428-9CA3-6978932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9D2615-0573-4EB2-8DAE-A86629C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363-DD86-4050-B9EE-EA2FBA5E5E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78CD-B305-4E0F-B5BC-264BCAFFDA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3475-734C-4E69-B9C0-195807C1C4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E93E-3555-4EEB-AC01-A037ED1F09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0931-24C4-44FB-BC82-47E3414C09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4B88-B41F-420C-9676-C61F5D5A4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4A34-6F5D-47DB-821C-13F3D986A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FA79-56F9-4565-AD5E-732B95CD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27F-AFF6-4565-BD5C-5E67C3DB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7465-C3B2-4570-BB98-7C81210024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nomatopoei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248160" cy="31129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7435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words that supposedly mimic their meaning in their s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961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em excerp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eard a fly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uz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I di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lue, uncertain stumbling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buz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429000" cy="28652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6050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helps explains something about sound or noise. It explains how a fly buzzes around the room when the narrators person dies. The buzzing is an example of onomatopoeia because how onomatopoeia uses sound to help explain the sound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a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lan Agui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en Manz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el Apari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4745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6:44:07Z</dcterms:created>
  <dc:creator>Troy High School</dc:creator>
  <dc:description/>
  <dc:language>en-US</dc:language>
  <cp:lastModifiedBy>Troy High School</cp:lastModifiedBy>
  <dcterms:modified xsi:type="dcterms:W3CDTF">2009-02-11T17:04:14Z</dcterms:modified>
  <cp:revision>3</cp:revision>
  <dc:subject/>
  <dc:title>Onomatopoeia</dc:title>
</cp:coreProperties>
</file>